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72288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C034-D2EB-4201-BB39-F839E1D1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F03-35A1-41EF-9166-7F5F7B9E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3BE-4B41-4649-BB8A-497B7679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C36-2F2A-4BA7-A5BD-28B2F6BB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77B-3641-4D16-921F-06126BE6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A92-A0A6-45B7-8645-CA4C3A7F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2DF-082B-4D87-8807-9E476A2A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B1A-E01C-4BDF-92FE-9F1894B0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980-5397-42BD-8C1A-83662A5D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067-746B-4BE1-9459-6F3F3296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3510-3CB5-4356-8323-F4D92D25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94B-5C53-4683-99D9-9DF128BD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487D-F550-4B20-86A9-A0664ED0FB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1547640" y="260280"/>
            <a:ext cx="759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КРАЕВОЕ РОДИТЕЛЬСКОЕ СОБР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3517920"/>
          </a:xfrm>
          <a:prstGeom prst="rect">
            <a:avLst/>
          </a:prstGeom>
          <a:solidFill>
            <a:srgbClr val="003192"/>
          </a:solidFill>
          <a:ln w="0">
            <a:noFill/>
          </a:ln>
        </p:spPr>
        <p:txBody>
          <a:bodyPr anchor="ctr">
            <a:noAutofit/>
          </a:bodyPr>
          <a:p>
            <a:pPr marL="3556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О подготовке к итоговому собеседованию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 и  ОГЭ по русскому язы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95280" y="455904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5505120"/>
            <a:ext cx="9144000" cy="1191240"/>
          </a:xfrm>
          <a:prstGeom prst="rect">
            <a:avLst/>
          </a:prstGeom>
          <a:solidFill>
            <a:srgbClr val="b7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  <a:ea typeface="Arial"/>
              </a:rPr>
              <a:t>ГБОУ «Институт развития образования» Краснодарского кра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  <a:ea typeface="Arial"/>
              </a:rPr>
              <a:t>www.iro23.r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  <a:ea typeface="Arial"/>
              </a:rPr>
              <a:t>e-mail: post@iro23.ru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  <a:ea typeface="Arial"/>
              </a:rPr>
              <a:t>тел.: +7 (861) 232-85-7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1187280" y="1413000"/>
            <a:ext cx="79567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2" descr=""/>
          <p:cNvPicPr/>
          <p:nvPr/>
        </p:nvPicPr>
        <p:blipFill>
          <a:blip r:embed="rId1"/>
          <a:stretch/>
        </p:blipFill>
        <p:spPr>
          <a:xfrm>
            <a:off x="3346560" y="3067200"/>
            <a:ext cx="6357960" cy="42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8"/>
          <p:cNvSpPr/>
          <p:nvPr/>
        </p:nvSpPr>
        <p:spPr>
          <a:xfrm>
            <a:off x="204840" y="2708280"/>
            <a:ext cx="8867880" cy="3139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Фактическая точность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не влияет на общую оценку грамотности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Загнутый угол 14"/>
          <p:cNvSpPr/>
          <p:nvPr/>
        </p:nvSpPr>
        <p:spPr>
          <a:xfrm>
            <a:off x="355680" y="1461960"/>
            <a:ext cx="8685000" cy="817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Arial"/>
              </a:rPr>
              <a:t>Оценка грамот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5280" y="274680"/>
            <a:ext cx="685152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241200" y="1779480"/>
            <a:ext cx="8825040" cy="56844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ажно правильно распределить время!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8"/>
          <p:cNvSpPr/>
          <p:nvPr/>
        </p:nvSpPr>
        <p:spPr>
          <a:xfrm>
            <a:off x="196920" y="4172040"/>
            <a:ext cx="8889840" cy="140004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а одно задание с кратким ответом можно выделить в среднем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4 – 5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минут ( то есть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1 час 20 мину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нутый угол 14"/>
          <p:cNvSpPr/>
          <p:nvPr/>
        </p:nvSpPr>
        <p:spPr>
          <a:xfrm>
            <a:off x="900000" y="1125360"/>
            <a:ext cx="7934400" cy="4924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9194d"/>
                </a:solidFill>
                <a:uFillTx/>
                <a:latin typeface="Arial"/>
              </a:rPr>
              <a:t>Несколько советов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6"/>
          <p:cNvSpPr/>
          <p:nvPr/>
        </p:nvSpPr>
        <p:spPr>
          <a:xfrm>
            <a:off x="204840" y="2492280"/>
            <a:ext cx="8823240" cy="533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4000"/>
          </a:bodyPr>
          <a:p>
            <a:pPr marL="252000" indent="-252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ремя экзамена 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35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 минут (3 ч.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55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 мин.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7"/>
          <p:cNvSpPr/>
          <p:nvPr/>
        </p:nvSpPr>
        <p:spPr>
          <a:xfrm>
            <a:off x="189000" y="5730840"/>
            <a:ext cx="8867520" cy="11271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а написание сочинения необходимо отвест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1 час 30 минут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9"/>
          <p:cNvSpPr/>
          <p:nvPr/>
        </p:nvSpPr>
        <p:spPr>
          <a:xfrm>
            <a:off x="227160" y="3141720"/>
            <a:ext cx="8867520" cy="9856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а написание изложения необходимо отвест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1 час 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Выноска со стрелкой вправо 15"/>
          <p:cNvSpPr/>
          <p:nvPr/>
        </p:nvSpPr>
        <p:spPr>
          <a:xfrm>
            <a:off x="163440" y="1555920"/>
            <a:ext cx="5746680" cy="5186160"/>
          </a:xfrm>
          <a:prstGeom prst="rightArrowCallout">
            <a:avLst>
              <a:gd name="adj1" fmla="val 25002"/>
              <a:gd name="adj2" fmla="val 25245"/>
              <a:gd name="adj3" fmla="val 12815"/>
              <a:gd name="adj4" fmla="val 80921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3"/>
          <p:cNvSpPr/>
          <p:nvPr/>
        </p:nvSpPr>
        <p:spPr>
          <a:xfrm>
            <a:off x="5910120" y="2546280"/>
            <a:ext cx="3233880" cy="30225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marL="268200" indent="-268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 последний этап – редактирование, исправление ошибок и переписывание в бланк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163440" y="1839960"/>
            <a:ext cx="4735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ыделить микротемы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ыбрать ключевые слова в каждой микротеме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Главно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: чтобы при сжатии текста была сохранена основная мысль, соблюдалось количество микротем–абзаце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Загнутый угол 13"/>
          <p:cNvSpPr/>
          <p:nvPr/>
        </p:nvSpPr>
        <p:spPr>
          <a:xfrm>
            <a:off x="458640" y="1109520"/>
            <a:ext cx="8685360" cy="446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Arial"/>
              </a:rPr>
              <a:t>План-памятка для написания излож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4802040" y="5294160"/>
            <a:ext cx="42372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Выноска со стрелкой вправо 15"/>
          <p:cNvSpPr/>
          <p:nvPr/>
        </p:nvSpPr>
        <p:spPr>
          <a:xfrm>
            <a:off x="0" y="1614600"/>
            <a:ext cx="6346800" cy="5184720"/>
          </a:xfrm>
          <a:prstGeom prst="rightArrowCallout">
            <a:avLst>
              <a:gd name="adj1" fmla="val 25002"/>
              <a:gd name="adj2" fmla="val 25245"/>
              <a:gd name="adj3" fmla="val 12814"/>
              <a:gd name="adj4" fmla="val 80921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8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3"/>
          <p:cNvSpPr/>
          <p:nvPr/>
        </p:nvSpPr>
        <p:spPr>
          <a:xfrm>
            <a:off x="6346800" y="2757600"/>
            <a:ext cx="2797200" cy="207324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marL="268200" indent="-268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бязательные элементы сочинения ОГЭ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6"/>
          <p:cNvSpPr/>
          <p:nvPr/>
        </p:nvSpPr>
        <p:spPr>
          <a:xfrm>
            <a:off x="163440" y="1687680"/>
            <a:ext cx="48862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Определите тему (о чём говорится в тексте?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Выделите ключевые слова, которые помогают понять смысл текста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одумайте, как можно начать своё сочинение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Найдите в тексте предложения, подтверждающие вашу точку зрения, запишите их своими словами (аргументы), объясните, как понимаете смысл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Завершая сочинение, выразите своё отношение к теме, предложенной автором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Загнутый угол 13"/>
          <p:cNvSpPr/>
          <p:nvPr/>
        </p:nvSpPr>
        <p:spPr>
          <a:xfrm>
            <a:off x="457200" y="1125360"/>
            <a:ext cx="8685360" cy="5623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Arial"/>
              </a:rPr>
              <a:t>План-памятка для написания сочин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5049720" y="5432400"/>
            <a:ext cx="409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последний этап – редактирование, исправление ошибок и переписывание в бланк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Загнутый угол 14"/>
          <p:cNvSpPr/>
          <p:nvPr/>
        </p:nvSpPr>
        <p:spPr>
          <a:xfrm>
            <a:off x="274680" y="1330200"/>
            <a:ext cx="8683560" cy="11876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родителям помочь детям подготовиться к экзамена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274680" y="2637000"/>
            <a:ext cx="868356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1. Контроль уровня подготовки к экзамену, для этого необходимо поддерживать связь с классным руководителем и учителями-предметникам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285840" y="4292640"/>
            <a:ext cx="86835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2. Систематическое решение выпускниками заданий в формате ОГЭ на основе Интернет-ресурсо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9"/>
          <p:cNvSpPr/>
          <p:nvPr/>
        </p:nvSpPr>
        <p:spPr>
          <a:xfrm>
            <a:off x="274680" y="5440320"/>
            <a:ext cx="868356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Во время тренировки по тестовым заданиям приучайте ребенка ориентироваться во времени и уметь его распределять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721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Загнутый угол 14"/>
          <p:cNvSpPr/>
          <p:nvPr/>
        </p:nvSpPr>
        <p:spPr>
          <a:xfrm>
            <a:off x="274680" y="1352520"/>
            <a:ext cx="8683560" cy="601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2111" t="10822" r="5489" b="67170"/>
          <a:stretch/>
        </p:blipFill>
        <p:spPr>
          <a:xfrm>
            <a:off x="127080" y="2205000"/>
            <a:ext cx="7657920" cy="1405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rcRect l="11958" t="10074" r="11156" b="13617"/>
          <a:stretch/>
        </p:blipFill>
        <p:spPr>
          <a:xfrm>
            <a:off x="912960" y="3860640"/>
            <a:ext cx="8045280" cy="24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нутый угол 14"/>
          <p:cNvSpPr/>
          <p:nvPr/>
        </p:nvSpPr>
        <p:spPr>
          <a:xfrm>
            <a:off x="274680" y="2279520"/>
            <a:ext cx="8683560" cy="20606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Желаем успеха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1440" y="140760"/>
            <a:ext cx="795492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896840"/>
            <a:ext cx="9144000" cy="1292040"/>
          </a:xfrm>
          <a:prstGeom prst="rect">
            <a:avLst/>
          </a:prstGeom>
          <a:solidFill>
            <a:srgbClr val="b7cfff"/>
          </a:solidFill>
          <a:ln w="0">
            <a:noFill/>
          </a:ln>
        </p:spPr>
        <p:txBody>
          <a:bodyPr anchor="ctr">
            <a:normAutofit fontScale="85000"/>
          </a:bodyPr>
          <a:p>
            <a:pPr marL="46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Georgia"/>
                <a:ea typeface="Arial"/>
              </a:rPr>
              <a:t>Апробация итогового собеседования для выпускников 9 классов будет проходить в школ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Arial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  <a:ea typeface="Arial"/>
              </a:rPr>
              <a:t>В 2017-2018 учебном году результаты собеседования не влияют на допуск к ОГЭ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одержимое 2"/>
          <p:cNvSpPr/>
          <p:nvPr/>
        </p:nvSpPr>
        <p:spPr>
          <a:xfrm>
            <a:off x="0" y="3327480"/>
            <a:ext cx="9144000" cy="684000"/>
          </a:xfrm>
          <a:prstGeom prst="rect">
            <a:avLst/>
          </a:prstGeom>
          <a:solidFill>
            <a:srgbClr val="b7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45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Georgia"/>
                <a:ea typeface="Arial"/>
              </a:rPr>
              <a:t>На выполнение работы одним участником отводится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  <a:ea typeface="Arial"/>
              </a:rPr>
              <a:t>15 минут</a:t>
            </a:r>
            <a:r>
              <a:rPr b="1" lang="ru-RU" sz="2200" spc="-1" strike="noStrike">
                <a:solidFill>
                  <a:srgbClr val="002060"/>
                </a:solidFill>
                <a:latin typeface="Georgia"/>
                <a:ea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одержимое 2"/>
          <p:cNvSpPr/>
          <p:nvPr/>
        </p:nvSpPr>
        <p:spPr>
          <a:xfrm>
            <a:off x="0" y="4121280"/>
            <a:ext cx="9144000" cy="645840"/>
          </a:xfrm>
          <a:prstGeom prst="rect">
            <a:avLst/>
          </a:prstGeom>
          <a:solidFill>
            <a:srgbClr val="b7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marL="44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Georgia"/>
                <a:ea typeface="Arial"/>
              </a:rPr>
              <a:t>Максимальное количество баллов, которое может получить ученик,  — </a:t>
            </a:r>
            <a:r>
              <a:rPr b="1" lang="ru-RU" sz="2200" spc="-1" strike="noStrike">
                <a:solidFill>
                  <a:srgbClr val="ff0000"/>
                </a:solidFill>
                <a:latin typeface="Georgia"/>
                <a:ea typeface="Arial"/>
              </a:rPr>
              <a:t>19</a:t>
            </a:r>
            <a:r>
              <a:rPr b="1" lang="ru-RU" sz="2200" spc="-1" strike="noStrike">
                <a:solidFill>
                  <a:srgbClr val="002060"/>
                </a:solidFill>
                <a:latin typeface="Georgia"/>
                <a:ea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0" y="4967280"/>
            <a:ext cx="9144000" cy="885960"/>
          </a:xfrm>
          <a:prstGeom prst="rect">
            <a:avLst/>
          </a:prstGeom>
          <a:solidFill>
            <a:srgbClr val="b7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marL="51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Georgia"/>
                <a:ea typeface="Arial"/>
              </a:rPr>
              <a:t>Зачет выставляется, если выпускник набрал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  <a:ea typeface="Arial"/>
              </a:rPr>
              <a:t>10</a:t>
            </a:r>
            <a:r>
              <a:rPr b="1" lang="ru-RU" sz="2200" spc="-1" strike="noStrike">
                <a:solidFill>
                  <a:srgbClr val="002060"/>
                </a:solidFill>
                <a:latin typeface="Georgia"/>
                <a:ea typeface="Arial"/>
              </a:rPr>
              <a:t>  или более баллов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одержимое 2"/>
          <p:cNvSpPr/>
          <p:nvPr/>
        </p:nvSpPr>
        <p:spPr>
          <a:xfrm>
            <a:off x="0" y="6008760"/>
            <a:ext cx="9144000" cy="820800"/>
          </a:xfrm>
          <a:prstGeom prst="rect">
            <a:avLst/>
          </a:prstGeom>
          <a:solidFill>
            <a:srgbClr val="b7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Georgia"/>
                <a:ea typeface="Arial"/>
              </a:rPr>
              <a:t>На протяжении всего времени ответа ведётся </a:t>
            </a:r>
            <a:r>
              <a:rPr b="1" lang="ru-RU" sz="2200" spc="-1" strike="noStrike">
                <a:solidFill>
                  <a:srgbClr val="ff0000"/>
                </a:solidFill>
                <a:latin typeface="Georgia"/>
                <a:ea typeface="Arial"/>
              </a:rPr>
              <a:t>аудио- запись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Овал 8"/>
          <p:cNvGrpSpPr/>
          <p:nvPr/>
        </p:nvGrpSpPr>
        <p:grpSpPr>
          <a:xfrm>
            <a:off x="79200" y="2316240"/>
            <a:ext cx="481320" cy="476280"/>
            <a:chOff x="79200" y="2316240"/>
            <a:chExt cx="481320" cy="476280"/>
          </a:xfrm>
        </p:grpSpPr>
        <p:pic>
          <p:nvPicPr>
            <p:cNvPr id="54" name="Овал 8" descr=""/>
            <p:cNvPicPr/>
            <p:nvPr/>
          </p:nvPicPr>
          <p:blipFill>
            <a:blip r:embed="rId1"/>
            <a:stretch/>
          </p:blipFill>
          <p:spPr>
            <a:xfrm>
              <a:off x="79200" y="2316240"/>
              <a:ext cx="481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95120" y="2397240"/>
              <a:ext cx="255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4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Овал 9"/>
          <p:cNvGrpSpPr/>
          <p:nvPr/>
        </p:nvGrpSpPr>
        <p:grpSpPr>
          <a:xfrm>
            <a:off x="79200" y="3389400"/>
            <a:ext cx="481320" cy="476280"/>
            <a:chOff x="79200" y="3389400"/>
            <a:chExt cx="481320" cy="476280"/>
          </a:xfrm>
        </p:grpSpPr>
        <p:pic>
          <p:nvPicPr>
            <p:cNvPr id="57" name="Овал 9" descr=""/>
            <p:cNvPicPr/>
            <p:nvPr/>
          </p:nvPicPr>
          <p:blipFill>
            <a:blip r:embed="rId2"/>
            <a:stretch/>
          </p:blipFill>
          <p:spPr>
            <a:xfrm>
              <a:off x="79200" y="3389400"/>
              <a:ext cx="481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95120" y="3473280"/>
              <a:ext cx="255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4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Овал 10"/>
          <p:cNvGrpSpPr/>
          <p:nvPr/>
        </p:nvGrpSpPr>
        <p:grpSpPr>
          <a:xfrm>
            <a:off x="79200" y="4237200"/>
            <a:ext cx="481320" cy="474480"/>
            <a:chOff x="79200" y="4237200"/>
            <a:chExt cx="481320" cy="474480"/>
          </a:xfrm>
        </p:grpSpPr>
        <p:pic>
          <p:nvPicPr>
            <p:cNvPr id="60" name="Овал 10" descr=""/>
            <p:cNvPicPr/>
            <p:nvPr/>
          </p:nvPicPr>
          <p:blipFill>
            <a:blip r:embed="rId3"/>
            <a:stretch/>
          </p:blipFill>
          <p:spPr>
            <a:xfrm>
              <a:off x="79200" y="4237200"/>
              <a:ext cx="4813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95120" y="4317840"/>
              <a:ext cx="255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4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Овал 11"/>
          <p:cNvGrpSpPr/>
          <p:nvPr/>
        </p:nvGrpSpPr>
        <p:grpSpPr>
          <a:xfrm>
            <a:off x="79200" y="5059440"/>
            <a:ext cx="481320" cy="476280"/>
            <a:chOff x="79200" y="5059440"/>
            <a:chExt cx="481320" cy="476280"/>
          </a:xfrm>
        </p:grpSpPr>
        <p:pic>
          <p:nvPicPr>
            <p:cNvPr id="63" name="Овал 11" descr=""/>
            <p:cNvPicPr/>
            <p:nvPr/>
          </p:nvPicPr>
          <p:blipFill>
            <a:blip r:embed="rId4"/>
            <a:stretch/>
          </p:blipFill>
          <p:spPr>
            <a:xfrm>
              <a:off x="79200" y="5059440"/>
              <a:ext cx="481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95120" y="5140440"/>
              <a:ext cx="2556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4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Овал 12"/>
          <p:cNvGrpSpPr/>
          <p:nvPr/>
        </p:nvGrpSpPr>
        <p:grpSpPr>
          <a:xfrm>
            <a:off x="73080" y="6199200"/>
            <a:ext cx="480960" cy="493560"/>
            <a:chOff x="73080" y="6199200"/>
            <a:chExt cx="480960" cy="493560"/>
          </a:xfrm>
        </p:grpSpPr>
        <p:pic>
          <p:nvPicPr>
            <p:cNvPr id="66" name="Овал 12" descr=""/>
            <p:cNvPicPr/>
            <p:nvPr/>
          </p:nvPicPr>
          <p:blipFill>
            <a:blip r:embed="rId5"/>
            <a:stretch/>
          </p:blipFill>
          <p:spPr>
            <a:xfrm>
              <a:off x="73080" y="6199200"/>
              <a:ext cx="480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 rot="168000">
              <a:off x="186840" y="6286320"/>
              <a:ext cx="25416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4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Загнутый угол 13"/>
          <p:cNvSpPr/>
          <p:nvPr/>
        </p:nvSpPr>
        <p:spPr>
          <a:xfrm>
            <a:off x="115920" y="1108080"/>
            <a:ext cx="8910720" cy="7239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4d"/>
                </a:solidFill>
                <a:latin typeface="Arial"/>
              </a:rPr>
              <a:t>МОДЕЛЬ АПРОБАЦИИ ИТОГОВОГО  СОБЕСЕДОВАНИЯ</a:t>
            </a:r>
            <a:br>
              <a:rPr sz="2200"/>
            </a:br>
            <a:r>
              <a:rPr b="1" lang="ru-RU" sz="2200" spc="-1" strike="noStrike">
                <a:solidFill>
                  <a:srgbClr val="19194d"/>
                </a:solidFill>
                <a:latin typeface="Arial"/>
              </a:rPr>
              <a:t> ПО РУССКОМУ ЯЗЫКУ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55160" y="150840"/>
            <a:ext cx="761076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05264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rcRect l="10279" t="20896" r="12625" b="9887"/>
          <a:stretch/>
        </p:blipFill>
        <p:spPr>
          <a:xfrm>
            <a:off x="136440" y="2060640"/>
            <a:ext cx="8912160" cy="4599000"/>
          </a:xfrm>
          <a:prstGeom prst="rect">
            <a:avLst/>
          </a:prstGeom>
          <a:ln w="0">
            <a:noFill/>
          </a:ln>
        </p:spPr>
      </p:pic>
      <p:sp>
        <p:nvSpPr>
          <p:cNvPr id="72" name="Загнутый угол 5"/>
          <p:cNvSpPr/>
          <p:nvPr/>
        </p:nvSpPr>
        <p:spPr>
          <a:xfrm>
            <a:off x="155520" y="1338120"/>
            <a:ext cx="8910720" cy="7225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4d"/>
                </a:solidFill>
                <a:latin typeface="Arial"/>
              </a:rPr>
              <a:t>Устное  собеседование  по русскому языку  состоит из четырех заданий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5680" y="190080"/>
            <a:ext cx="776592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rcRect l="6187" t="2800" r="8115" b="5502"/>
          <a:stretch/>
        </p:blipFill>
        <p:spPr>
          <a:xfrm>
            <a:off x="181080" y="2060640"/>
            <a:ext cx="8854920" cy="4654440"/>
          </a:xfrm>
          <a:prstGeom prst="rect">
            <a:avLst/>
          </a:prstGeom>
          <a:ln w="0">
            <a:noFill/>
          </a:ln>
        </p:spPr>
      </p:pic>
      <p:sp>
        <p:nvSpPr>
          <p:cNvPr id="75" name="Загнутый угол 3"/>
          <p:cNvSpPr/>
          <p:nvPr/>
        </p:nvSpPr>
        <p:spPr>
          <a:xfrm>
            <a:off x="138240" y="1338120"/>
            <a:ext cx="8910360" cy="7225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Интернет - ресурсы для подготовки к устному  собеседованию по русскому языку (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http://www.fipi.ru</a:t>
            </a: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8880" y="-360"/>
            <a:ext cx="80247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14958" t="10723" r="18023" b="5571"/>
          <a:stretch/>
        </p:blipFill>
        <p:spPr>
          <a:xfrm>
            <a:off x="189000" y="2163600"/>
            <a:ext cx="8496360" cy="4524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343640" y="1557360"/>
            <a:ext cx="1657440" cy="1859040"/>
          </a:xfrm>
          <a:prstGeom prst="rect">
            <a:avLst/>
          </a:prstGeom>
          <a:ln w="0">
            <a:noFill/>
          </a:ln>
        </p:spPr>
      </p:pic>
      <p:sp>
        <p:nvSpPr>
          <p:cNvPr id="79" name="Загнутый угол 4"/>
          <p:cNvSpPr/>
          <p:nvPr/>
        </p:nvSpPr>
        <p:spPr>
          <a:xfrm>
            <a:off x="154080" y="1344600"/>
            <a:ext cx="8910720" cy="7221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Интернет - ресурсы для подготовки к устному  собеседованию по русскому языку (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http://iro23.ru</a:t>
            </a: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rcRect l="15707" t="10969" r="17484" b="5251"/>
          <a:stretch/>
        </p:blipFill>
        <p:spPr>
          <a:xfrm>
            <a:off x="19080" y="2092320"/>
            <a:ext cx="8953560" cy="4599000"/>
          </a:xfrm>
          <a:prstGeom prst="rect">
            <a:avLst/>
          </a:prstGeom>
          <a:ln w="0">
            <a:noFill/>
          </a:ln>
        </p:spPr>
      </p:pic>
      <p:sp>
        <p:nvSpPr>
          <p:cNvPr id="82" name="Загнутый угол 3"/>
          <p:cNvSpPr/>
          <p:nvPr/>
        </p:nvSpPr>
        <p:spPr>
          <a:xfrm>
            <a:off x="174600" y="1338120"/>
            <a:ext cx="8910720" cy="7225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Интернет - ресурсы для подготовки к устному  собеседованию по русскому языку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http://iro23.ru</a:t>
            </a: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79138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готовка к ОГЭ по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133200" y="2205000"/>
            <a:ext cx="8948880" cy="1017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6000"/>
          </a:bodyPr>
          <a:p>
            <a:pPr marL="23040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1 часть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– сжатое изложение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бщее количество баллов за 1 часть –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7 баллов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8"/>
          <p:cNvSpPr/>
          <p:nvPr/>
        </p:nvSpPr>
        <p:spPr>
          <a:xfrm>
            <a:off x="81000" y="4581360"/>
            <a:ext cx="8988480" cy="21099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2000"/>
          </a:bodyPr>
          <a:p>
            <a:pPr marL="420480" indent="-420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3 часть – СОЧИНЕНИЕ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Общее количество баллов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–          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9 баллов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Критерии оценки грамотности  –   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8 балл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Фактическая точность речи      –     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2 балл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нутый угол 14"/>
          <p:cNvSpPr/>
          <p:nvPr/>
        </p:nvSpPr>
        <p:spPr>
          <a:xfrm>
            <a:off x="119160" y="1281240"/>
            <a:ext cx="8910720" cy="8744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СТРУКТУРА КИМа  ОГЭ ПО РУССКОМУ ЯЗЫК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6"/>
          <p:cNvSpPr/>
          <p:nvPr/>
        </p:nvSpPr>
        <p:spPr>
          <a:xfrm>
            <a:off x="81000" y="3357720"/>
            <a:ext cx="9028080" cy="1017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6000"/>
          </a:bodyPr>
          <a:p>
            <a:pPr marL="23040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2 часть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– задания с кратким ответом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бщее количество баллов за 2 часть –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13 баллов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204840" y="2205000"/>
            <a:ext cx="8867880" cy="21099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тметка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«4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25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о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33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баллов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если учащийся набрал  не менее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4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балл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за грамотность  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(критерии ГК1–ГК4)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8"/>
          <p:cNvSpPr/>
          <p:nvPr/>
        </p:nvSpPr>
        <p:spPr>
          <a:xfrm>
            <a:off x="204840" y="4508640"/>
            <a:ext cx="8867880" cy="22381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тметка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«5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т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34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до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39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баллов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если учащийся набрал  не менее  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6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балл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за грамотность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(критерии ГК1–ГК4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нутый угол 14"/>
          <p:cNvSpPr/>
          <p:nvPr/>
        </p:nvSpPr>
        <p:spPr>
          <a:xfrm>
            <a:off x="387360" y="1257480"/>
            <a:ext cx="8685360" cy="817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Arial"/>
              </a:rPr>
              <a:t>Оценка грамот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5"/>
          <p:cNvSpPr/>
          <p:nvPr/>
        </p:nvSpPr>
        <p:spPr>
          <a:xfrm>
            <a:off x="0" y="1989000"/>
            <a:ext cx="9072720" cy="4869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ГК1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– орфографические  ошибки (верно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аписание слов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ГК2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– пунктуационные ошибки (верна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становка знаков препинания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ГК3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– грамматические ошибки (верно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строение предложений, верно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бразование форм слова в словосочетании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ГК 4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– речевые ошибки (верное употреблени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лов в предложении)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Загнутый угол 14"/>
          <p:cNvSpPr/>
          <p:nvPr/>
        </p:nvSpPr>
        <p:spPr>
          <a:xfrm>
            <a:off x="204840" y="1378080"/>
            <a:ext cx="8683560" cy="465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Arial"/>
              </a:rPr>
              <a:t>Критерии грамот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9T23:03:03Z</dcterms:created>
  <dc:creator>Галина</dc:creator>
  <dc:description/>
  <dc:language>en-US</dc:language>
  <cp:lastModifiedBy>Q9</cp:lastModifiedBy>
  <dcterms:modified xsi:type="dcterms:W3CDTF">2018-02-16T05:55:31Z</dcterms:modified>
  <cp:revision>356</cp:revision>
  <dc:subject>Административное право</dc:subject>
  <dc:title>Слайд 1</dc:title>
</cp:coreProperties>
</file>